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5167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524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95280" y="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9988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600" rIns="936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9528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7C7C-F82C-4509-9D27-079E749281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D41D6-8701-4DAA-94A2-2E0BB0658E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BF21E-5317-45B3-B3AC-3A55836091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C85-FF1B-457E-86B6-96FD08E02E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24A3C-AEAE-4214-A9B2-CB6C96717C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DC0F9-2393-49A9-9C45-1EE3C4556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D558-4896-4F5E-A1CA-79BC2ED2F4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781F2-D28E-40B6-8F7F-95B0A6AB9F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CA6A-19E5-45B9-B7B0-A98F8A07905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9694F-953C-4CA0-BDC8-8319BACD40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A440-617E-4573-9A30-C6C879B944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C81E0-2F2A-4C71-AE97-3CA6498DC4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EB62-C7BC-4C2F-AA49-2FA8EC4AF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48820-E7E3-4CF1-B7F2-F51C10D3B9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7"/>
          <p:cNvSpPr/>
          <p:nvPr/>
        </p:nvSpPr>
        <p:spPr>
          <a:xfrm>
            <a:off x="3995640" y="8842320"/>
            <a:ext cx="30560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600" rIns="936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132B4-BAE1-463E-8E77-2AC9C7F403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20024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04880" y="4420800"/>
            <a:ext cx="56433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ECE5-F456-4C99-959F-24831E30A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77F64-9458-4C17-B287-6D80D40C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53A9-2AA6-41FB-8A13-2DCBC0FBD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BB909-3CE9-4EF5-A41F-8B7092FC4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DA144-38D8-4847-BC96-17575A67C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FB10-BAC9-4A30-80A7-A49610BE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795B3-17E7-4882-AA06-76464AAA0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E9DE2-E950-46C4-B233-39B52AE74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8DE8-0401-4CF8-A12C-F6E76B8BF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4DFF-0C32-4DB2-A76B-97CEA1A9E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73C9F-2E8E-4335-A6B6-8EE1FD188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778-504B-4B6F-84EA-2DD430726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D968-07AE-4608-9B29-4AFFD96350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777600"/>
            <a:ext cx="899172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mount of solar energy per unit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f Earth’s surface area depends on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rth’s curved surface cause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loser to the equator to receive more direct sunlight than latitudes farther north or sou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ITUDE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5"/>
          <p:cNvGrpSpPr/>
          <p:nvPr/>
        </p:nvGrpSpPr>
        <p:grpSpPr>
          <a:xfrm>
            <a:off x="1393920" y="3505320"/>
            <a:ext cx="6724080" cy="2813040"/>
            <a:chOff x="1393920" y="3505320"/>
            <a:chExt cx="6724080" cy="2813040"/>
          </a:xfrm>
        </p:grpSpPr>
        <p:pic>
          <p:nvPicPr>
            <p:cNvPr id="51" name="Picture 12" descr="C174_05A_MSS12-A"/>
            <p:cNvPicPr/>
            <p:nvPr/>
          </p:nvPicPr>
          <p:blipFill>
            <a:blip r:embed="rId1"/>
            <a:stretch/>
          </p:blipFill>
          <p:spPr>
            <a:xfrm>
              <a:off x="1393920" y="3505320"/>
              <a:ext cx="5541120" cy="2813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Picture 13" descr="C174_05A_MSS12-B"/>
            <p:cNvPicPr/>
            <p:nvPr/>
          </p:nvPicPr>
          <p:blipFill>
            <a:blip r:embed="rId2"/>
            <a:stretch/>
          </p:blipFill>
          <p:spPr>
            <a:xfrm>
              <a:off x="6967800" y="3802320"/>
              <a:ext cx="1150200" cy="2343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1920" y="634680"/>
            <a:ext cx="8991720" cy="294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ear the poles receive less solar energy and have lower average temperatur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atitude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near the equator tend to have warmer climates than higher latitu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C174_L1_P004a"/>
          <p:cNvPicPr/>
          <p:nvPr/>
        </p:nvPicPr>
        <p:blipFill>
          <a:blip r:embed="rId1"/>
          <a:stretch/>
        </p:blipFill>
        <p:spPr>
          <a:xfrm>
            <a:off x="2570040" y="3200400"/>
            <a:ext cx="3867120" cy="3400560"/>
          </a:xfrm>
          <a:prstGeom prst="rect">
            <a:avLst/>
          </a:prstGeom>
          <a:ln w="0">
            <a:noFill/>
          </a:ln>
        </p:spPr>
      </p:pic>
      <p:sp>
        <p:nvSpPr>
          <p:cNvPr id="56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LATITUDE 2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-6480" y="838080"/>
            <a:ext cx="908064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untains influence climate because they are barriers to prevailing wind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area of low rainfall on the downwind slope of a mountain is called 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rain shadow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5" descr="C174_L1_P005a"/>
          <p:cNvPicPr/>
          <p:nvPr/>
        </p:nvPicPr>
        <p:blipFill>
          <a:blip r:embed="rId1"/>
          <a:stretch/>
        </p:blipFill>
        <p:spPr>
          <a:xfrm>
            <a:off x="0" y="2995560"/>
            <a:ext cx="9080640" cy="3862440"/>
          </a:xfrm>
          <a:prstGeom prst="rect">
            <a:avLst/>
          </a:prstGeom>
          <a:ln w="0">
            <a:noFill/>
          </a:ln>
        </p:spPr>
      </p:pic>
      <p:sp>
        <p:nvSpPr>
          <p:cNvPr id="60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AIN SHAD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363600" y="609120"/>
            <a:ext cx="8393040" cy="16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te is influenc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mperature decreases as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ltitud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creases in the troposphe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C174_L1_P004b"/>
          <p:cNvPicPr/>
          <p:nvPr/>
        </p:nvPicPr>
        <p:blipFill>
          <a:blip r:embed="rId1"/>
          <a:stretch/>
        </p:blipFill>
        <p:spPr>
          <a:xfrm>
            <a:off x="1514520" y="2527200"/>
            <a:ext cx="6091200" cy="3649680"/>
          </a:xfrm>
          <a:prstGeom prst="rect">
            <a:avLst/>
          </a:prstGeom>
          <a:ln w="0">
            <a:noFill/>
          </a:ln>
        </p:spPr>
      </p:pic>
      <p:sp>
        <p:nvSpPr>
          <p:cNvPr id="63" name="title"/>
          <p:cNvSpPr/>
          <p:nvPr/>
        </p:nvSpPr>
        <p:spPr>
          <a:xfrm>
            <a:off x="0" y="0"/>
            <a:ext cx="806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ALTITU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0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85760" y="609480"/>
            <a:ext cx="895824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cause land heats and cools more quickly than water, climates along coastlines to remain somewhat consta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ailing winds extend the moderate temperatures farther inla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xt_box"/>
          <p:cNvSpPr/>
          <p:nvPr/>
        </p:nvSpPr>
        <p:spPr>
          <a:xfrm>
            <a:off x="152280" y="914400"/>
            <a:ext cx="8991720" cy="27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cean currents modify clim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ulf Stream is a warm, northward current along the east coast of North Amer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Gulf Stream brings warmer temperatures to portions of the United States and Europ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WATER 1/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240" y="852480"/>
            <a:ext cx="8001000" cy="54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en-US" sz="3200" spc="-1" strike="noStrike">
                <a:solidFill>
                  <a:srgbClr val="0069b6"/>
                </a:solidFill>
                <a:latin typeface="Arial"/>
              </a:rPr>
              <a:t>microclimate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 a localized climate that is different from the climate of the larger area surrounding 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ities are often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armer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 the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rrounding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e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1001"/>
              </a:spcBef>
              <a:spcAft>
                <a:spcPts val="1001"/>
              </a:spcAft>
              <a:buClr>
                <a:srgbClr val="e4000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ity’s roads and buildings absorb solar radi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C174_L1_P007a"/>
          <p:cNvPicPr/>
          <p:nvPr/>
        </p:nvPicPr>
        <p:blipFill>
          <a:blip r:embed="rId1"/>
          <a:stretch/>
        </p:blipFill>
        <p:spPr>
          <a:xfrm>
            <a:off x="4572000" y="2438280"/>
            <a:ext cx="3809880" cy="2613240"/>
          </a:xfrm>
          <a:prstGeom prst="rect">
            <a:avLst/>
          </a:prstGeom>
          <a:ln w="0">
            <a:noFill/>
          </a:ln>
        </p:spPr>
      </p:pic>
      <p:sp>
        <p:nvSpPr>
          <p:cNvPr id="71" name="title"/>
          <p:cNvSpPr/>
          <p:nvPr/>
        </p:nvSpPr>
        <p:spPr>
          <a:xfrm>
            <a:off x="14400" y="0"/>
            <a:ext cx="8824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What affects climate?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ICROCL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0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500"/>
                                        <p:tgtEl>
                                          <p:spTgt spid="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"/>
          <p:cNvSpPr/>
          <p:nvPr/>
        </p:nvSpPr>
        <p:spPr>
          <a:xfrm>
            <a:off x="20520" y="2209680"/>
            <a:ext cx="861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tp://readingtonscience.wikispaces.co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08T18:25:33Z</dcterms:created>
  <dc:creator>administrator</dc:creator>
  <dc:description/>
  <dc:language>en-US</dc:language>
  <cp:lastModifiedBy>Krial, Sherry</cp:lastModifiedBy>
  <cp:lastPrinted>2013-03-11T12:23:12Z</cp:lastPrinted>
  <dcterms:modified xsi:type="dcterms:W3CDTF">2013-03-11T15:53:13Z</dcterms:modified>
  <cp:revision>4</cp:revision>
  <dc:subject/>
  <dc:title>Slide 1</dc:title>
</cp:coreProperties>
</file>